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AEE1-D6B7-4EDE-BC13-294FB8267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5540-E8B1-4F9B-97D4-3DB5B9623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CF07-F88A-4115-9303-7FF21461B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2F9E-C59D-49F9-BC95-F043F48F2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CDCC2-29FC-4C0D-8DEA-4921FD79A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3A5AF-EF5C-4B7B-9D75-0B2632C3F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FDC7C-6BA9-4BB4-A07F-B0CE13DD4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88324-0D79-41BE-9E08-D0B94F1DA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A00C2-3800-4153-9E40-F28B9D8F5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4E239-5F51-496F-A494-DF0861139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FAE3E-012A-4E35-83C2-14A2B9C8A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3F6D-5DC4-488B-B8E1-7FDEE24FF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9FBD2-D650-41A8-9170-09A60FCFE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A6497-5723-48C4-93B8-A89E9F920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89948-DF3C-4143-BF72-D5F4ADDE7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8C763-ADCE-471B-A3AE-D1A3C0DA5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AED89-B27E-4C2C-8BE4-788B114A2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6B285F-4DCF-4192-B2D7-AD0B334E6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62D0FC-A259-4D03-AA7B-0B5D3C91B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E31E99-B21C-4941-9F78-54695558E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17FAF2-C2B9-4497-911D-1ECBC505B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741505-406B-44CC-81FC-B03FF9326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67A5-71AA-402F-BB21-2C34DF9D3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E07A41-D8D7-4B2E-A96F-BEC700A5C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357713-4D6E-42E6-977F-143B648B4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162EE0-235B-4E15-BABE-1B181F712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75B4B5-70AA-4819-9BEC-AFA4896DD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6BE830-B742-44D8-8476-E5ABD11EC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DECAD5-76F9-4513-B428-1FB67F060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25379E-D69D-4D2B-9912-C7E20B319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2DA7A4-256C-4620-A968-30DAE7D7A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071780-4696-498F-A319-A452C30F1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B76539-4B5C-428C-8715-D91174653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BC45-D6DD-483F-9C70-346614E07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254DCD-00AB-4625-9948-A50889E99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FF4DFB-BE1A-4933-9609-2CA0C7C0E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E9FA5B-843B-4DC3-A015-C66D0A911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D18F8E-D414-4F6B-B49E-BF75EC30D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FB609F-2CC4-4B82-885F-2B8AE1602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8DFB34-1ADA-438A-9C01-DACCE7DF6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BF8F54-6F14-47D8-9B40-ABF8AD6DB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16A122-E23A-451A-A22F-4F612E2CF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1DE373-C833-453C-8FAD-7D02E78A4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2ED19F-A111-41EA-8690-A1692D0A8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3B0F-0A93-4A4D-AF1B-4BE1B4601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7960D3-59C5-4F04-AC7C-F0C68C32A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4829F4-DFE8-464B-B2D3-4DAA3B855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1C5AD7-7B59-44FE-9080-C6BA9329B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E57C85-B6FD-4D16-9066-F3220A79C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EB3082-F61E-44B8-BF3D-425F68AE9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145B68-057E-4D8F-ACC1-D74EC8A41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497119-26DB-42DD-A3C2-F3E0F22FF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D81FAC-D845-457F-A889-03E011EA4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76C0F6-D731-4F72-A181-822B54312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C5C8FA-D95D-40CB-9490-1310933D9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2F72-0851-485B-AD15-AB6B2B7E8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E6C4EC-3E8C-48FB-AFB5-5E09CEE10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8166B2-4EF8-4D18-991B-783427449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940E2D-4FF0-480A-A27D-3EA806931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095D92-D132-4FEA-AAD5-5526DF783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E7BFA7-829B-4038-88DB-AE1A25861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A92782-1AA8-4F9B-8365-9AB8AE631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701151-9023-4859-B5F5-A1921BF94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53DB2F-E5DF-4C00-8004-95F2AEE4F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D465DB-8830-43E4-B190-91C27EFE5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A9244A-0E75-45A4-9DAB-D4A17B7E4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51DA-FEC0-491A-9A4C-EF0894387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514B47-83D2-4407-B48C-EDD35788D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8E0AC9-E1A4-4498-83D5-71CDFDEB1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0CB448-AF93-41D6-AD23-346666BDB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D24ECF-4286-44C2-99AD-BF29BA732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31CD33-703C-4762-92A3-440D87D11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474F41-D928-4D53-86E3-657DD5580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BDE4B1-0E78-4820-89DB-C6B01D6EB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2439AD-397B-4378-BF47-61542234D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EF4A21-1440-4E95-B1B8-C613E957F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AAF0B5-033D-4E11-A96F-B55942B39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7B1B-B0D6-4BD3-8988-EB5C80AFB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906EBA-18E2-4165-BFEB-7DF32A974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736E54-C3C8-48AC-A5DC-1C0A88EEA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39E659-0AA1-4F09-BE10-03573E25C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BEB0A0-21D5-41B5-9421-EE73DA3B3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EA5431-1E5A-44C7-B7CA-16A8D01CC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CCC5-939A-44AC-9877-BD0655475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Obdélník 9"/>
          <p:cNvSpPr/>
          <p:nvPr/>
        </p:nvSpPr>
        <p:spPr>
          <a:xfrm>
            <a:off x="0" y="143496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bdélník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F189B-45E4-45C0-9EA5-052806282D7B}" type="datetime">
              <a:rPr b="0" lang="cs-CZ" sz="1200" spc="-1" strike="noStrike">
                <a:solidFill>
                  <a:srgbClr val="3f3f3f"/>
                </a:solidFill>
                <a:latin typeface="Corbel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94156-68C2-4DA1-B8F3-FCD8DA2A4125}" type="slidenum">
              <a:rPr b="0" lang="cs-CZ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bdélník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bdélník 9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85C05-6D68-49E0-93FE-525B9F5DFF51}" type="datetime">
              <a:rPr b="0" lang="cs-CZ" sz="1200" spc="-1" strike="noStrike">
                <a:solidFill>
                  <a:srgbClr val="ffffff"/>
                </a:solidFill>
                <a:latin typeface="Corbel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214EC-1615-4417-9EE2-299AC941C1E2}" type="slidenum">
              <a:rPr b="0" lang="cs-CZ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Obdélník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bdélník 11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C7CEA-92B2-4243-8DAB-5D5FBB5A010F}" type="datetime">
              <a:rPr b="0" lang="cs-CZ" sz="1200" spc="-1" strike="noStrike">
                <a:solidFill>
                  <a:srgbClr val="ffffff"/>
                </a:solidFill>
                <a:latin typeface="Corbel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A2149-BE45-4852-BA84-2E5016483B2C}" type="slidenum">
              <a:rPr b="0" lang="cs-CZ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DBAA3-D937-46C8-851B-6F72C1383DAD}" type="datetime">
              <a:rPr b="0" lang="cs-CZ" sz="1200" spc="-1" strike="noStrike">
                <a:solidFill>
                  <a:srgbClr val="3f3f3f"/>
                </a:solidFill>
                <a:latin typeface="Corbel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AF05B-6649-4C05-9EDB-34817AB228E7}" type="slidenum">
              <a:rPr b="0" lang="cs-CZ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Obdélník 9"/>
          <p:cNvSpPr/>
          <p:nvPr/>
        </p:nvSpPr>
        <p:spPr>
          <a:xfrm>
            <a:off x="0" y="143496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bdélník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bdélník 11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bdélník 9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ED531-0B8C-4D2D-B112-4F2C04B9D3AD}" type="datetime">
              <a:rPr b="0" lang="cs-CZ" sz="1200" spc="-1" strike="noStrike">
                <a:solidFill>
                  <a:srgbClr val="3f3f3f"/>
                </a:solidFill>
                <a:latin typeface="Corbel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3E05A-2D97-4E02-A163-B600E8C1549E}" type="slidenum">
              <a:rPr b="0" lang="cs-CZ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Obdélník 9"/>
          <p:cNvSpPr/>
          <p:nvPr/>
        </p:nvSpPr>
        <p:spPr>
          <a:xfrm>
            <a:off x="0" y="143496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bdélník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bdélník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bdélník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63DD0-12F2-4E77-8466-87E32D6F8FCA}" type="datetime">
              <a:rPr b="0" lang="cs-CZ" sz="1200" spc="-1" strike="noStrike">
                <a:solidFill>
                  <a:srgbClr val="3f3f3f"/>
                </a:solidFill>
                <a:latin typeface="Corbel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C4814-915E-46C7-8532-80C61CC618E2}" type="slidenum">
              <a:rPr b="0" lang="cs-CZ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Obdélník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bdélník 7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747B7-F508-441B-84C6-44A4981BBB3A}" type="datetime">
              <a:rPr b="0" lang="cs-CZ" sz="1200" spc="-1" strike="noStrike">
                <a:solidFill>
                  <a:srgbClr val="3f3f3f"/>
                </a:solidFill>
                <a:latin typeface="Corbel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54A77-7C83-4423-B041-5EAB0DBCA2F3}" type="slidenum">
              <a:rPr b="0" lang="cs-CZ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wikiskripta.eu/index.php/Angina_pectoris" TargetMode="External"/><Relationship Id="rId2" Type="http://schemas.openxmlformats.org/officeDocument/2006/relationships/hyperlink" Target="http://www.wikiskripta.eu/index.php/Perikarditida_%28patologie%29" TargetMode="External"/><Relationship Id="rId3" Type="http://schemas.openxmlformats.org/officeDocument/2006/relationships/hyperlink" Target="http://www.wikiskripta.eu/index.php/Tampon&#225;da_srde&#269;n&#237;" TargetMode="External"/><Relationship Id="rId4" Type="http://schemas.openxmlformats.org/officeDocument/2006/relationships/hyperlink" Target="http://www.wikiskripta.eu/index.php/Ischemick&#225;_choroba_srde&#269;n&#237;" TargetMode="External"/><Relationship Id="rId5" Type="http://schemas.openxmlformats.org/officeDocument/2006/relationships/hyperlink" Target="http://www.wikiskripta.eu/index.php/Myokarditida" TargetMode="External"/><Relationship Id="rId6" Type="http://schemas.openxmlformats.org/officeDocument/2006/relationships/hyperlink" Target="http://www.wikiskripta.eu/index.php/Kardiomyopathie" TargetMode="External"/><Relationship Id="rId7" Type="http://schemas.openxmlformats.org/officeDocument/2006/relationships/hyperlink" Target="http://www.wikiskripta.eu/index.php/Arytmie" TargetMode="External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wikiskripta.eu/index.php/Z&#225;kladn&#237;_p&#345;&#237;znaky_p&#345;i_onemocn&#283;n&#237;_srdce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wikiskripta.eu/index.php/Endokarditida" TargetMode="External"/><Relationship Id="rId2" Type="http://schemas.openxmlformats.org/officeDocument/2006/relationships/hyperlink" Target="http://www.wikiskripta.eu/index.php/Myokarditida" TargetMode="External"/><Relationship Id="rId3" Type="http://schemas.openxmlformats.org/officeDocument/2006/relationships/hyperlink" Target="http://www.wikiskripta.eu/index.php/Aort&#225;ln&#237;_sten&#243;za" TargetMode="External"/><Relationship Id="rId4" Type="http://schemas.openxmlformats.org/officeDocument/2006/relationships/hyperlink" Target="http://www.wikiskripta.eu/index.php/Sten&#243;za_plicnice" TargetMode="External"/><Relationship Id="rId5" Type="http://schemas.openxmlformats.org/officeDocument/2006/relationships/hyperlink" Target="http://www.wikiskripta.eu/index.php/Mitr&#225;ln&#237;_sten&#243;za" TargetMode="External"/><Relationship Id="rId6" Type="http://schemas.openxmlformats.org/officeDocument/2006/relationships/hyperlink" Target="http://www.wikiskripta.eu/index.php/Vrozen&#233;_srde&#269;n&#237;_vady" TargetMode="External"/><Relationship Id="rId7" Type="http://schemas.openxmlformats.org/officeDocument/2006/relationships/hyperlink" Target="http://www.wikiskripta.eu/index.php/Defekt_septa_s&#237;n&#237;" TargetMode="External"/><Relationship Id="rId8" Type="http://schemas.openxmlformats.org/officeDocument/2006/relationships/hyperlink" Target="http://www.wikiskripta.eu/index.php/Infarkt_myokardu_%28patologie%29" TargetMode="External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9280" y="404640"/>
            <a:ext cx="8077320" cy="260856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Corbel"/>
              </a:rPr>
              <a:t>Název školy: Střední zdravotnická škola a vyšší odborná škola zdravotnická Karlovy Vary</a:t>
            </a:r>
            <a:br>
              <a:rPr sz="2000"/>
            </a:br>
            <a:r>
              <a:rPr b="1" lang="cs-CZ" sz="2000" spc="-1" strike="noStrike">
                <a:solidFill>
                  <a:srgbClr val="ffffff"/>
                </a:solidFill>
                <a:latin typeface="Corbel"/>
              </a:rPr>
              <a:t>Číslo projektu: CZ.1.07/1.5.00/34.0953</a:t>
            </a:r>
            <a:br>
              <a:rPr sz="2000"/>
            </a:b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Vzdělávací materiál</a:t>
            </a:r>
            <a:r>
              <a:rPr b="1" lang="cs-CZ" sz="2000" spc="-1" strike="noStrike">
                <a:solidFill>
                  <a:srgbClr val="ffffff"/>
                </a:solidFill>
                <a:latin typeface="Corbel"/>
              </a:rPr>
              <a:t>: </a:t>
            </a:r>
            <a:r>
              <a:rPr b="1" lang="cs-CZ" sz="2000" spc="-1" strike="noStrike" u="sng">
                <a:solidFill>
                  <a:srgbClr val="ffffff"/>
                </a:solidFill>
                <a:uFillTx/>
                <a:latin typeface="Arial Black"/>
              </a:rPr>
              <a:t>Patologie srdce a cév</a:t>
            </a:r>
            <a:br>
              <a:rPr sz="2000"/>
            </a:br>
            <a:r>
              <a:rPr b="1" lang="cs-CZ" sz="2000" spc="-1" strike="noStrike">
                <a:solidFill>
                  <a:srgbClr val="ffffff"/>
                </a:solidFill>
                <a:latin typeface="Corbel"/>
              </a:rPr>
              <a:t>Šablona III/2 Inovace a zkvalitnění výuky prostřednictvím ICT</a:t>
            </a:r>
            <a:br>
              <a:rPr sz="2000"/>
            </a:br>
            <a:r>
              <a:rPr b="1" lang="cs-CZ" sz="2000" spc="-1" strike="noStrike">
                <a:solidFill>
                  <a:srgbClr val="ffffff"/>
                </a:solidFill>
                <a:latin typeface="Corbel"/>
              </a:rPr>
              <a:t>Název materiálu: </a:t>
            </a:r>
            <a:r>
              <a:rPr b="1" lang="cs-CZ" sz="2000" spc="-1" strike="noStrike">
                <a:solidFill>
                  <a:srgbClr val="ffffff"/>
                </a:solidFill>
                <a:latin typeface="Arial Black"/>
              </a:rPr>
              <a:t>VY_32_INOVACE_KLN.2.15a</a:t>
            </a:r>
            <a:br>
              <a:rPr sz="2000"/>
            </a:br>
            <a:r>
              <a:rPr b="1" lang="cs-CZ" sz="2000" spc="-1" strike="noStrike">
                <a:solidFill>
                  <a:srgbClr val="ffffff"/>
                </a:solidFill>
                <a:latin typeface="Corbel"/>
              </a:rPr>
              <a:t>Datum tvorby: </a:t>
            </a:r>
            <a:r>
              <a:rPr b="1" lang="cs-CZ" sz="2000" spc="-1" strike="noStrike">
                <a:solidFill>
                  <a:srgbClr val="ffffff"/>
                </a:solidFill>
                <a:latin typeface="Arial Black"/>
              </a:rPr>
              <a:t>14.2.2014</a:t>
            </a:r>
            <a:br>
              <a:rPr sz="2000"/>
            </a:br>
            <a:r>
              <a:rPr b="1" lang="cs-CZ" sz="2000" spc="-1" strike="noStrike">
                <a:solidFill>
                  <a:srgbClr val="ffffff"/>
                </a:solidFill>
                <a:latin typeface="Corbel"/>
              </a:rPr>
              <a:t>Vyučovací předmět, ročník, obor: </a:t>
            </a:r>
            <a:r>
              <a:rPr b="1" lang="cs-CZ" sz="2000" spc="-1" strike="noStrike">
                <a:solidFill>
                  <a:srgbClr val="ffffff"/>
                </a:solidFill>
                <a:latin typeface="Arial Black"/>
              </a:rPr>
              <a:t>KLN, 2. ročník, Nutriční asistent</a:t>
            </a:r>
            <a:br>
              <a:rPr sz="2000"/>
            </a:br>
            <a:r>
              <a:rPr b="1" lang="cs-CZ" sz="2000" spc="-1" strike="noStrike">
                <a:solidFill>
                  <a:srgbClr val="ffffff"/>
                </a:solidFill>
                <a:latin typeface="Corbel"/>
              </a:rPr>
              <a:t>Autor: </a:t>
            </a:r>
            <a:r>
              <a:rPr b="1" lang="cs-CZ" sz="2000" spc="-1" strike="noStrike">
                <a:solidFill>
                  <a:srgbClr val="ffffff"/>
                </a:solidFill>
                <a:latin typeface="Arial Black"/>
              </a:rPr>
              <a:t>Mgr. Veronika Rausová</a:t>
            </a:r>
            <a:br>
              <a:rPr sz="2000"/>
            </a:br>
            <a:r>
              <a:rPr b="1" lang="cs-CZ" sz="2000" spc="-1" strike="noStrike">
                <a:solidFill>
                  <a:srgbClr val="ffffff"/>
                </a:solidFill>
                <a:latin typeface="Corbel"/>
              </a:rPr>
              <a:t>Anotace: </a:t>
            </a:r>
            <a:r>
              <a:rPr b="0" lang="cs-CZ" sz="1800" spc="-1" strike="noStrike">
                <a:solidFill>
                  <a:srgbClr val="ffffff"/>
                </a:solidFill>
                <a:latin typeface="Arial Black"/>
              </a:rPr>
              <a:t>Vzdělávací materiál je určen k podpoře výuky předmětu Klinika nemocí v rozsahu jednoho školního roku. Prezentace KLN.2.15 zahrnuje pojmy: insufucience srdce a cév, onemocnění srdce a cév a jejich důsledky. Prezentace je zakončena sérií otázek k opakování a Testem IX.</a:t>
            </a:r>
            <a:endParaRPr b="1" lang="en-US" sz="1800" spc="-1" strike="noStrike">
              <a:solidFill>
                <a:srgbClr val="ffc800"/>
              </a:solidFill>
              <a:latin typeface="Corbel"/>
            </a:endParaRPr>
          </a:p>
        </p:txBody>
      </p:sp>
      <p:pic>
        <p:nvPicPr>
          <p:cNvPr id="304" name="Picture 4" descr=""/>
          <p:cNvPicPr/>
          <p:nvPr/>
        </p:nvPicPr>
        <p:blipFill>
          <a:blip r:embed="rId1"/>
          <a:stretch/>
        </p:blipFill>
        <p:spPr>
          <a:xfrm>
            <a:off x="611280" y="5300640"/>
            <a:ext cx="8191440" cy="134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cs-CZ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rbel"/>
              </a:rPr>
              <a:t>Angina pectoris </a:t>
            </a:r>
            <a:r>
              <a:rPr b="0" lang="cs-CZ" sz="1200" spc="-1" strike="noStrike" u="sng">
                <a:solidFill>
                  <a:srgbClr val="0000ff"/>
                </a:solidFill>
                <a:uFillTx/>
                <a:latin typeface="Corbel"/>
                <a:hlinkClick r:id="rId1"/>
              </a:rPr>
              <a:t>http://www.wikiskripta.eu/index.php/Angina_pectoris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rbel"/>
              </a:rPr>
              <a:t>Perikarditida </a:t>
            </a:r>
            <a:r>
              <a:rPr b="0" lang="cs-CZ" sz="1200" spc="-1" strike="noStrike" u="sng">
                <a:solidFill>
                  <a:srgbClr val="0000ff"/>
                </a:solidFill>
                <a:uFillTx/>
                <a:latin typeface="Corbel"/>
                <a:hlinkClick r:id="rId2"/>
              </a:rPr>
              <a:t>http://www.wikiskripta.eu/index.php/Perikarditida_%28patologie%29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rbel"/>
              </a:rPr>
              <a:t>Tamponáda srdeční </a:t>
            </a:r>
            <a:r>
              <a:rPr b="0" lang="cs-CZ" sz="1200" spc="-1" strike="noStrike" u="sng">
                <a:solidFill>
                  <a:srgbClr val="0000ff"/>
                </a:solidFill>
                <a:uFillTx/>
                <a:latin typeface="Corbel"/>
                <a:hlinkClick r:id="rId3"/>
              </a:rPr>
              <a:t>http://www.wikiskripta.eu/index.php/Tampon%C3%A1da_srde%C4%8Dn%C3%AD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rbel"/>
              </a:rPr>
              <a:t>ICHS (ischemická choroba srdeční) </a:t>
            </a:r>
            <a:r>
              <a:rPr b="0" lang="cs-CZ" sz="1200" spc="-1" strike="noStrike" u="sng">
                <a:solidFill>
                  <a:srgbClr val="0000ff"/>
                </a:solidFill>
                <a:uFillTx/>
                <a:latin typeface="Corbel"/>
                <a:hlinkClick r:id="rId4"/>
              </a:rPr>
              <a:t>http://www.wikiskripta.eu/index.php/Ischemick%C3%A1_choroba_srde%C4%8Dn%C3%AD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rbel"/>
              </a:rPr>
              <a:t>Myokarditida </a:t>
            </a:r>
            <a:r>
              <a:rPr b="0" lang="cs-CZ" sz="1200" spc="-1" strike="noStrike" u="sng">
                <a:solidFill>
                  <a:srgbClr val="0000ff"/>
                </a:solidFill>
                <a:uFillTx/>
                <a:latin typeface="Corbel"/>
                <a:hlinkClick r:id="rId5"/>
              </a:rPr>
              <a:t>http://www.wikiskripta.eu/index.php/Myokarditida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Kardiomyopatie </a:t>
            </a:r>
            <a:r>
              <a:rPr b="0" lang="cs-CZ" sz="1200" spc="-1" strike="noStrike" u="sng">
                <a:solidFill>
                  <a:srgbClr val="0000ff"/>
                </a:solidFill>
                <a:uFillTx/>
                <a:latin typeface="Corbel"/>
                <a:hlinkClick r:id="rId6"/>
              </a:rPr>
              <a:t>http://www.wikiskripta.eu/index.php/Kardiomyopathie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Arytmie </a:t>
            </a:r>
            <a:r>
              <a:rPr b="0" lang="cs-CZ" sz="1200" spc="-1" strike="noStrike" u="sng">
                <a:solidFill>
                  <a:srgbClr val="0000ff"/>
                </a:solidFill>
                <a:uFillTx/>
                <a:latin typeface="Corbel"/>
                <a:hlinkClick r:id="rId7"/>
              </a:rPr>
              <a:t>http://www.wikiskripta.eu/index.php/Arytmie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Srdeční malformac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500" spc="-1" strike="noStrike">
                <a:solidFill>
                  <a:srgbClr val="ffc800"/>
                </a:solidFill>
                <a:latin typeface="Corbel"/>
              </a:rPr>
              <a:t>ONEMOCNĚNÍ CÉV A KRVE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Ateroskleróza </a:t>
            </a:r>
            <a:r>
              <a:rPr b="0" lang="cs-CZ" sz="1200" spc="-1" strike="noStrike">
                <a:solidFill>
                  <a:srgbClr val="000000"/>
                </a:solidFill>
                <a:latin typeface="Corbel"/>
              </a:rPr>
              <a:t>http://www.wikiskripta.eu/index.php/Ateroskler%C3%B3za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Aneurysma </a:t>
            </a:r>
            <a:r>
              <a:rPr b="0" lang="cs-CZ" sz="1200" spc="-1" strike="noStrike">
                <a:solidFill>
                  <a:srgbClr val="000000"/>
                </a:solidFill>
                <a:latin typeface="Corbel"/>
              </a:rPr>
              <a:t>http://www.wikiskripta.eu/index.php/Aneurysma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Záněty cév </a:t>
            </a:r>
            <a:r>
              <a:rPr b="0" lang="cs-CZ" sz="1200" spc="-1" strike="noStrike">
                <a:solidFill>
                  <a:srgbClr val="000000"/>
                </a:solidFill>
                <a:latin typeface="Corbel"/>
              </a:rPr>
              <a:t>http://www.wikiskripta.eu/index.php/Syst%C3%A9mov%C3%A9_vaskulitidy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Varixy </a:t>
            </a:r>
            <a:r>
              <a:rPr b="0" lang="cs-CZ" sz="1200" spc="-1" strike="noStrike">
                <a:solidFill>
                  <a:srgbClr val="000000"/>
                </a:solidFill>
                <a:latin typeface="Corbel"/>
              </a:rPr>
              <a:t>http://www.wikiskripta.eu/index.php/Varixy_doln%C3%ADch_kon%C4%8Detin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Hemoroidy </a:t>
            </a:r>
            <a:r>
              <a:rPr b="0" lang="cs-CZ" sz="1200" spc="-1" strike="noStrike">
                <a:solidFill>
                  <a:srgbClr val="000000"/>
                </a:solidFill>
                <a:latin typeface="Corbel"/>
              </a:rPr>
              <a:t>http://www.wikiskripta.eu/index.php/Hemoroidy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Trombózy </a:t>
            </a:r>
            <a:r>
              <a:rPr b="0" lang="cs-CZ" sz="1200" spc="-1" strike="noStrike">
                <a:solidFill>
                  <a:srgbClr val="000000"/>
                </a:solidFill>
                <a:latin typeface="Corbel"/>
              </a:rPr>
              <a:t>http://www.wikiskripta.eu/index.php/Tromb%C3%B3za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Hypertenze </a:t>
            </a:r>
            <a:r>
              <a:rPr b="0" lang="cs-CZ" sz="1200" spc="-1" strike="noStrike">
                <a:solidFill>
                  <a:srgbClr val="000000"/>
                </a:solidFill>
                <a:latin typeface="Corbel"/>
              </a:rPr>
              <a:t>http://www.wikiskripta.eu/index.php/Hypertenze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Změny v množství a složení krv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500" spc="-1" strike="noStrike">
                <a:solidFill>
                  <a:srgbClr val="ffc800"/>
                </a:solidFill>
                <a:latin typeface="Corbel"/>
              </a:rPr>
              <a:t>DŮSLEDKY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3000"/>
          </a:bodyPr>
          <a:p>
            <a:pPr marL="407160" indent="-2962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rbel"/>
              </a:rPr>
              <a:t>Ischemie – celková nebo lokální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rbel"/>
              </a:rPr>
              <a:t>Dušnos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rbel"/>
              </a:rPr>
              <a:t>Otoky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rbel"/>
              </a:rPr>
              <a:t>Uzávěry cév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rbel"/>
              </a:rPr>
              <a:t>Otevírání kolaterá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rbel"/>
              </a:rPr>
              <a:t>Ascite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rbel"/>
              </a:rPr>
              <a:t>Postižení dalších orgánů – ischemie, infarkty, nekrózy, otoky, krvácení (hemoragie), hyperémie, metastázy, embolie, trombózy– plic, mozku, ledvin, jater, končetin…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rbel"/>
              </a:rPr>
              <a:t>http://www.wikiskripta.eu/index.php/C%C3%A9vn%C3%AD_mozko</a:t>
            </a:r>
            <a:r>
              <a:rPr b="0" lang="cs-CZ" sz="1200" spc="-1" strike="noStrike">
                <a:solidFill>
                  <a:srgbClr val="000000"/>
                </a:solidFill>
                <a:latin typeface="Corbel"/>
              </a:rPr>
              <a:t>v%C3%A9_p%C5%99%C3%ADhody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orbel"/>
              </a:rPr>
              <a:t>http://www.wikiskripta.eu/index.php/Otok_plic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orbel"/>
              </a:rPr>
              <a:t>http://www.wikiskripta.eu/index.php/Port%C3%A1ln%C3%AD_hypertenze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500" spc="-1" strike="noStrike">
                <a:solidFill>
                  <a:srgbClr val="ffc800"/>
                </a:solidFill>
                <a:latin typeface="Corbel"/>
              </a:rPr>
              <a:t>Opakování: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87000"/>
          </a:bodyPr>
          <a:p>
            <a:pPr marL="380880" indent="-2772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Co je INSUFICIENCE a jaké má důsledky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80880" indent="-2772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Co je ISCHEMIE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80880" indent="-2772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Jmenujte onemocnění srdce a jejich příznaky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80880" indent="-2772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Co je angina pectoris, infarkt, endokarditida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80880" indent="-2772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Jmenujte onemocnění cév  jejich příznaky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80880" indent="-2772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Co je ateroskleróza, trombóza, varixy,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80880" indent="-2772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Jaké důsledky mohou mít onemocnění srdce  cév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3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3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3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3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cs-CZ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Literatura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rbel"/>
              </a:rPr>
              <a:t>MAČÁK, Jiří a Jana MAČÁKOVÁ. </a:t>
            </a:r>
            <a:r>
              <a:rPr b="0" i="1" lang="cs-CZ" sz="2000" spc="-1" strike="noStrike">
                <a:solidFill>
                  <a:srgbClr val="000000"/>
                </a:solidFill>
                <a:latin typeface="Corbel"/>
              </a:rPr>
              <a:t>Patologie</a:t>
            </a:r>
            <a:r>
              <a:rPr b="0" lang="cs-CZ" sz="2000" spc="-1" strike="noStrike">
                <a:solidFill>
                  <a:srgbClr val="000000"/>
                </a:solidFill>
                <a:latin typeface="Corbel"/>
              </a:rPr>
              <a:t>. 1. vyd. Praha: Grada, 2004. ISBN 80-247-0785-3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rbel"/>
              </a:rPr>
              <a:t>STŘÍTESKÝ, Jan a Petr HALBERSTADT. </a:t>
            </a:r>
            <a:r>
              <a:rPr b="0" i="1" lang="cs-CZ" sz="2000" spc="-1" strike="noStrike">
                <a:solidFill>
                  <a:srgbClr val="000000"/>
                </a:solidFill>
                <a:latin typeface="Corbel"/>
              </a:rPr>
              <a:t>Patologie pro 2. ročník středních zdravotnických škol</a:t>
            </a:r>
            <a:r>
              <a:rPr b="0" lang="cs-CZ" sz="2000" spc="-1" strike="noStrike">
                <a:solidFill>
                  <a:srgbClr val="000000"/>
                </a:solidFill>
                <a:latin typeface="Corbel"/>
              </a:rPr>
              <a:t>. Vyd. 1. Praha: Scientia medica, 1995, 2 sv. ISBN 80-85526-44-11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440" y="3715920"/>
            <a:ext cx="8077320" cy="131292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700" spc="-1" strike="noStrike">
                <a:solidFill>
                  <a:srgbClr val="ffc800"/>
                </a:solidFill>
                <a:latin typeface="Corbel"/>
              </a:rPr>
              <a:t>PATOLOGIE SRDCE A CÉV</a:t>
            </a:r>
            <a:endParaRPr b="1" lang="en-US" sz="4700" spc="-1" strike="noStrike">
              <a:solidFill>
                <a:srgbClr val="ffc800"/>
              </a:solidFill>
              <a:latin typeface="Corbe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500" spc="-1" strike="noStrike">
                <a:solidFill>
                  <a:srgbClr val="ffc800"/>
                </a:solidFill>
                <a:latin typeface="Corbel"/>
              </a:rPr>
              <a:t>INSUFICIENCE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2000"/>
          </a:bodyPr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rbel"/>
              </a:rPr>
              <a:t>Insuficience = 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= nedostatečnost, selhávání, selhání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rbel"/>
              </a:rPr>
              <a:t>Co se děje při insuficienci oběhového systému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- nedostatek kyslíku a živin ve tkáních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- hromadění zplodin metabolismu ve tkáních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- vznik atrofií, infarktů, nekróz, gangrén, smr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3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3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500" spc="-1" strike="noStrike">
                <a:solidFill>
                  <a:srgbClr val="ffc800"/>
                </a:solidFill>
                <a:latin typeface="Corbel"/>
              </a:rPr>
              <a:t>Insuficience může být: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2000"/>
          </a:bodyPr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AKUTNÍ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- z náhlého uzavření cévy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- proč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trombus, nádor, prasknutí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CHRONICKÁ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Z postupného uzavírání cévy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Např. při ateroskleróz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MÍSTNÍ nebo CELKOVÁ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3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3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3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3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3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3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3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3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500" spc="-1" strike="noStrike">
                <a:solidFill>
                  <a:srgbClr val="ffc800"/>
                </a:solidFill>
                <a:latin typeface="Corbel"/>
              </a:rPr>
              <a:t>VÝVOJ STAVU PŘI INSUFICIENCI: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Kompenzace – využití rezerv, otevření kolaterálního oběhu…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Dekompenzac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Smr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500" spc="-1" strike="noStrike">
                <a:solidFill>
                  <a:srgbClr val="ffc800"/>
                </a:solidFill>
                <a:latin typeface="Corbel"/>
              </a:rPr>
              <a:t>PROJEVY SUBJEKTIVNÍ: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Dušnost (dyspnoe) – námahová  &gt; klidová &gt; asthma cardiale (při nahromadění krve v malém krevním oběhu při insuficienci levé komory)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= nemocný se snaží dodat tělu maximální množství kyslíku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POCIT DUŠENÍ &gt;  úlevová poloha – v sedě, předklon s opřením o ruc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500" spc="-1" strike="noStrike">
                <a:solidFill>
                  <a:srgbClr val="ffc800"/>
                </a:solidFill>
                <a:latin typeface="Corbel"/>
              </a:rPr>
              <a:t>PROJEVY OBJEKTIVNÍ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7000"/>
          </a:bodyPr>
          <a:p>
            <a:pPr marL="424800" indent="-3092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= viditelné příznaky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Zbytnění = hypertrofie srdečních komor (koncentrická, excentrická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Následná dilatac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Insuficience srdc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Venostáza &gt; otoky, venostatická edém, transudace do tělních dutin, venostatický katar, zvětšení vnitřních orgánů, bledost, cyanóza </a:t>
            </a:r>
            <a:r>
              <a:rPr b="0" lang="cs-CZ" sz="1200" spc="-1" strike="noStrike" u="sng">
                <a:solidFill>
                  <a:srgbClr val="0000ff"/>
                </a:solidFill>
                <a:uFillTx/>
                <a:latin typeface="Corbel"/>
                <a:hlinkClick r:id="rId1"/>
              </a:rPr>
              <a:t>http://www.wikiskripta.eu/index.php/Z%C3%A1kladn%C3%AD_p%C5%99%C3%ADznaky_p%C5%99i_onemocn%C4%9Bn%C3%AD_srdce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500" spc="-1" strike="noStrike">
                <a:solidFill>
                  <a:srgbClr val="ffc800"/>
                </a:solidFill>
                <a:latin typeface="Corbel"/>
              </a:rPr>
              <a:t>ONEMOCNĚNÍ SRDCE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1000"/>
          </a:bodyPr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rbel"/>
              </a:rPr>
              <a:t>Záněty srdeční nitroblány (endokarditidy – revmatická, bakteriální akutní, chronická) &gt; deformace chlopní &gt; získaná srdeční vada </a:t>
            </a:r>
            <a:r>
              <a:rPr b="0" lang="cs-CZ" sz="1200" spc="-1" strike="noStrike" u="sng">
                <a:solidFill>
                  <a:srgbClr val="0000ff"/>
                </a:solidFill>
                <a:uFillTx/>
                <a:latin typeface="Corbel"/>
                <a:hlinkClick r:id="rId1"/>
              </a:rPr>
              <a:t>http://www.wikiskripta.eu/index.php/Endokarditida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rbel"/>
              </a:rPr>
              <a:t>Myokarditidy </a:t>
            </a:r>
            <a:r>
              <a:rPr b="0" lang="cs-CZ" sz="1200" spc="-1" strike="noStrike" u="sng">
                <a:solidFill>
                  <a:srgbClr val="0000ff"/>
                </a:solidFill>
                <a:uFillTx/>
                <a:latin typeface="Corbel"/>
                <a:hlinkClick r:id="rId2"/>
              </a:rPr>
              <a:t>http://www.wikiskripta.eu/index.php/Myokarditida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rbel"/>
              </a:rPr>
              <a:t>Stenózy chlopní </a:t>
            </a:r>
            <a:r>
              <a:rPr b="0" lang="cs-CZ" sz="1200" spc="-1" strike="noStrike" u="sng">
                <a:solidFill>
                  <a:srgbClr val="0000ff"/>
                </a:solidFill>
                <a:uFillTx/>
                <a:latin typeface="Corbel"/>
                <a:hlinkClick r:id="rId3"/>
              </a:rPr>
              <a:t>http://www.wikiskripta.eu/index.php/Aort%C3%A1ln%C3%AD_sten%C3%B3za</a:t>
            </a:r>
            <a:r>
              <a:rPr b="0" lang="cs-CZ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cs-CZ" sz="1200" spc="-1" strike="noStrike" u="sng">
                <a:solidFill>
                  <a:srgbClr val="0000ff"/>
                </a:solidFill>
                <a:uFillTx/>
                <a:latin typeface="Corbel"/>
                <a:hlinkClick r:id="rId4"/>
              </a:rPr>
              <a:t>http://www.wikiskripta.eu/index.php/Sten%C3%B3za_plicnice</a:t>
            </a:r>
            <a:r>
              <a:rPr b="0" lang="cs-CZ" sz="1200" spc="-1" strike="noStrike">
                <a:solidFill>
                  <a:srgbClr val="000000"/>
                </a:solidFill>
                <a:latin typeface="Corbel"/>
              </a:rPr>
              <a:t>, </a:t>
            </a:r>
            <a:r>
              <a:rPr b="0" lang="cs-CZ" sz="1200" spc="-1" strike="noStrike" u="sng">
                <a:solidFill>
                  <a:srgbClr val="0000ff"/>
                </a:solidFill>
                <a:uFillTx/>
                <a:latin typeface="Corbel"/>
                <a:hlinkClick r:id="rId5"/>
              </a:rPr>
              <a:t>http://www.wikiskripta.eu/index.php/Mitr%C3%A1ln%C3%AD_sten%C3%B3za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rbel"/>
              </a:rPr>
              <a:t>Vrozené srdeční  vady </a:t>
            </a:r>
            <a:r>
              <a:rPr b="0" lang="cs-CZ" sz="1200" spc="-1" strike="noStrike" u="sng">
                <a:solidFill>
                  <a:srgbClr val="0000ff"/>
                </a:solidFill>
                <a:uFillTx/>
                <a:latin typeface="Corbel"/>
                <a:hlinkClick r:id="rId6"/>
              </a:rPr>
              <a:t>http://www.wikiskripta.eu/index.php/Vrozen%C3%A9_srde%C4%8Dn%C3%AD_vady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 u="sng">
                <a:solidFill>
                  <a:srgbClr val="0000ff"/>
                </a:solidFill>
                <a:uFillTx/>
                <a:latin typeface="Corbel"/>
                <a:hlinkClick r:id="rId7"/>
              </a:rPr>
              <a:t>http://www.wikiskripta.eu/index.php/Defekt_septa_s%C3%ADn%C3%AD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rbel"/>
              </a:rPr>
              <a:t>Kombinované vady chlopní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rbel"/>
              </a:rPr>
              <a:t>Infarkty myokardu </a:t>
            </a:r>
            <a:r>
              <a:rPr b="0" lang="cs-CZ" sz="1200" spc="-1" strike="noStrike" u="sng">
                <a:solidFill>
                  <a:srgbClr val="0000ff"/>
                </a:solidFill>
                <a:uFillTx/>
                <a:latin typeface="Corbel"/>
                <a:hlinkClick r:id="rId8"/>
              </a:rPr>
              <a:t>http://www.wikiskripta.eu/index.php/Infarkt_myokardu_%28patologie%29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2T16:47:33Z</dcterms:created>
  <dc:creator>Veronika</dc:creator>
  <dc:description/>
  <dc:language>en-US</dc:language>
  <cp:lastModifiedBy>Chalupna</cp:lastModifiedBy>
  <dcterms:modified xsi:type="dcterms:W3CDTF">2014-03-31T21:25:24Z</dcterms:modified>
  <cp:revision>20</cp:revision>
  <dc:subject/>
  <dc:title>Snímek 1</dc:title>
</cp:coreProperties>
</file>